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82A5-E784-4C12-9B64-E3812132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F607-D7A9-469F-91AF-F681ADE4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C015E-DFAF-4FD7-9538-83208080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8B774-4CC5-4387-86B1-F0F4F612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00FF2-1B1D-46D0-A00B-0E6CC1F9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6AABF-4A3A-43A7-BD46-CAE1B102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06C34-7A3C-4057-9F7D-F76CACD8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78D32-8538-4624-8124-AFDFF728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A80E6-479B-456E-8D2C-4F5DA1BE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52A8C-58CE-4D82-8CC7-7CCAFA25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EDE8A-6B12-4B89-8A58-598A4910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78DAF-1BDB-4778-A1C1-11F4D4A3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5C9-2993-43CC-B0EC-BAD4CC7C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7B2085-5205-444A-950D-654A72DE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EB480-19C0-4A2A-BA6E-A911FC95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E0946-38D9-4DE5-8D52-F4EE9644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F2F6F-F853-46BD-AE27-ECD97020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47605-7FAB-4549-9644-6102E3A6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B0044-F12B-4E92-9EE6-E4B642D7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2E7CC-C359-44B1-A467-C63BB621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87584-BDCC-4236-8F7D-D12C2E45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DB032-6B80-4D06-A6BF-DF4F467C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F18CB-5264-43D2-9B68-B20471F0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20D-0653-4E16-9A40-AF7FE2DA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52756-73C9-4917-99E4-C8EBC061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966F5-3C5F-41EC-8E53-6C34B8FE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2AE22-601A-47AD-83C8-381F969B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4FA28-FAF7-463A-8E9F-DDC639B1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E5E43-E015-4236-A056-216E4E71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86FAC-E54F-4094-8B63-DE6F031D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9B8D4-802C-46C9-96E5-331B2864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43433-4D9B-412E-B6ED-5451F098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C4637-2F7B-4F56-B6B3-9692A8DF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88450-6B0C-4D19-A6DD-22D93B10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0492-AD06-4E57-B570-DF0F5306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40987-A974-472E-BF9E-CD7E21D2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80626-40E3-454A-A4CB-3C707B73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2A7D1-4141-4C47-8022-6902533A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9DAE9-4A6F-41C9-981D-6048493D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59A34-A516-42B0-82F8-CC464DA2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C25A1-1EF4-4B5F-94E1-EE0C8671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71A2F-CC28-4A0B-81B4-050E8380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DCB22-FC42-4E61-9A84-5A12BBB8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62BA7-087C-41B7-AE53-42318B09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DF2E4-6F4E-4B19-AC5C-98D568E6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568C-8CA0-4350-8A93-71535F99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AE3B8-4667-4E48-959B-8AE4F5E6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38C71-EA7D-45EC-9226-114E483C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E19DB-4C27-4EAF-9080-A3E4F7CF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F3365-1696-438D-B8CB-265E14EA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0B041-8102-430F-9B38-8E59C7AF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057B18-49DB-48DF-93EE-651D99BB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58A27A-3822-4D06-AB30-E95BB19D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D8905-E81A-4FBB-B966-EFE41A4F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C27EA5-1347-48F5-99B4-1D64B306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88E055-7BB1-4666-A0B7-DCA75C7C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9638-8BA3-4C5A-AB4C-D3947F36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8EE2D2-D622-43B9-B496-B89D6BF2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B2C3A1-614C-4E33-A7D9-4A2933C7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8E46AA-569C-48AD-832F-BC068FBF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231FD1-17CA-429E-90F1-FA009099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3E6A97-9C62-41AA-87EA-19C01A32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851369-B45F-4677-82ED-1EFC5BA1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AE7B2-1781-4114-BB09-33B3D2FA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BC5AF4-97EC-4A7F-A7D1-6A1BA4E3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B72928-2FEA-4885-AA8E-603AC771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201EAE-93B7-47C9-9975-BB706945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8246-271D-477F-8CF5-2361365F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21DA04-7E32-4CB0-9073-27C0F333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8CBDD6-881A-40BB-94C8-968DCCA9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8C6F1F-D8F4-4B5B-8020-35CBED44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6B23D8-F40F-4389-849B-BE59A8E9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5A8627-C1A3-4C29-8A00-0248FF1E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AB5FFE-1006-4127-9445-5865C5AB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F92592-3F85-4063-95BE-9E3EEFC5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C81317-2940-49E4-B231-6C231C4C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B229A6-A2E1-496E-9D4D-E3131BA2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C788DE-79D7-484E-BC09-4D08F8CA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8FDC-FC35-400B-9D59-05A24DA4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6C540C-391C-4109-982E-0D17D56E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930EDB-E6A5-4572-9AC8-DA4DA135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A15DFC-46E4-43FB-AFAD-615AA612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365C72-0137-4351-8BD5-0946B871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2EE21D-3659-4635-A9DF-91C29EB4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AEC364-6C97-4FDE-A123-141B3AA4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B32F8E-22A5-4379-B23E-6B6DCADC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918B14-CE37-49A8-BDC1-90B534C9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1FB9EE-2EC9-4C65-A3E5-ABFEA79C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035287-CFEF-476E-BA04-F42F9D96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0B16-867B-47AB-B4E7-3F64796A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DB9566-6C15-45E1-8BAE-D62A505C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32E82C-0F6E-4348-A126-6C455E49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70E3B3-AF31-4244-8CD8-1C6BCC3F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2258ED-F3B4-4197-AFA1-0638276C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7BD362-AF8A-41B5-A485-3BFE6E76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AB7BD1-C3A1-4962-835B-2D9BE569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A7EF07-2284-43DE-A32F-E21279E5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8761B6-419A-4CB9-9208-3CBFE746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5F6534-BCE1-4AC0-8181-3C044EB1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243CC3-34FF-4504-B8B0-6F198E5F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8180-36E5-460D-B7A5-A59BA505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6BFF53-3594-4C3F-870E-71B9A2E3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3FF2E8-5D3D-43C9-AEBB-E271E559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5EDC6D-3151-4BAC-884D-5E424F1B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1C59-7C8B-4B9B-A625-ADED3BDA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B238-D5A4-47B2-B6EC-F9C88F72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F127-EC7C-47BA-A4FA-AE664898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D591-D496-43CD-982E-7F51BB52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E698-1EF5-440F-A869-628E24CE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E905-95BE-4223-B147-699C5ED3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83713-A5E1-4B15-B661-15809C09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A015F-B1BB-4B6A-B501-A4C3F48F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CE88A-E1F0-408C-8066-868F6CB0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9FE35-6D53-47BA-A28F-E264AE81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32078-FBF5-4549-A7C4-DA1B1DFE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42C-EF85-483B-AD5D-5082915D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0D721-D869-49FA-9AF3-2A432052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27778-EBB8-4330-87AC-79F42DB4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DC158-3769-4A15-82A8-C9E53D6B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31DC4-D4B6-4FF6-89C5-394D7951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44BA6-F5C3-437C-8E18-D8FFE418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8B0C7-DF84-48D5-86C3-58B2D818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31008-F14D-4E9A-86E0-8DE099D0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37710-A637-48F7-A7A7-7A155F5C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E783C-FE86-4E7F-947E-BF457928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05DBB-8F01-49F3-85F6-1836D5B8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DE0E-C384-4EF4-BA78-6D8BC4F0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BBEEB-1744-4305-93A7-F8CC28B4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990F5-A9CD-4196-B209-0311A000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35BD1-78D8-40A1-824E-D552B27E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3F609-A470-4D40-BBE9-86135908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1FB56-3E88-4024-908E-79A9627E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B4BD1-D938-4CC8-9EB0-E7F7C857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6F16D-5BCE-4EE0-A0E6-DC62EC2F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14F74-2D18-4482-A5D5-847AA84F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7E5BE-77A0-4C93-9761-75BD0780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63564-ED57-4624-B188-092545CE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0D48-6BC1-43FA-838B-EA3260E5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A08CA-AE90-4566-90DE-51FBFBC0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14DB5-D7CB-4A8F-AE4B-B50C13D2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71C20-7899-48D7-9B36-6EB74124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57329-B389-4D48-9F21-D4914A3A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FE3A4-82BC-46BF-A915-2EFF3EA4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F9D2F-F310-4F7E-AEBA-45B5717B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CCDD5-7BAE-44B3-A356-A75FA012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DDFEF-7D49-46C5-9322-EC2DB1AD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B163C-A7B7-4998-81AF-3EACEEB5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33631-DB0C-4593-9A2E-BC022C73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496D-387B-461F-AFD7-2571CC85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36471-7568-464D-BD24-84EBB8AB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A1270A-74AC-4CA6-B2C6-A16814C0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07EE39-5D9E-4C23-B469-77BECFC6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4FC6BA-8DEB-45DD-BCFF-8AB61482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155F07-8747-479A-9AFF-D8870EDC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445D54-87F4-4B18-BD39-7FC31E48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18CA43-80BC-4434-9E18-20136D4E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437870-70A1-4C9F-A567-744DFDC6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6D0DDA-1E92-489D-BA53-27EF4E9F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B485FE-24FA-48E0-9376-3538588C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DEDA-A7F7-47A5-B022-0D172337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1077D0-669B-4463-82D6-6C6A2DD3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5A7C04-0838-4480-AAE7-5244D871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35C4C3-840C-4DC6-9CBB-43C99A04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881CA0-EA54-417E-9A36-9E679E64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1036C6-A282-4E73-AB2E-043070B7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B62320-FDB4-4BB3-B773-05F89844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D80543-4448-463F-9AB9-5E915968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99CCD6-7536-472D-A0B0-034432E3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65B9A7-5D6A-4EEF-8826-6250B5BE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0776B7-56DA-4F7D-A449-DBDA6ED0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B651-C4BB-42CE-ACF1-A5C03231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9DB2F3-3320-4E87-B57D-289744C3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F1A77F-E309-4A44-925F-B2E194BA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BE9098-7106-4564-819C-3498576B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589CBE-A922-4121-AC23-FB81C28A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E8464A-2498-4E22-8475-960D5090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F9262-8652-48B2-A387-29FEDE34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6415E-504F-43E7-98EB-5F776015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ACDB9-F91A-4798-8EA3-9079BD8C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DC13F-A089-4A79-B756-752D54B8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F87F4-CD53-4A6E-982C-2D3E2127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A3D-D636-4001-A190-99782F9D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A764A-DDB5-4BF3-9AD6-B0427844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70CE4-664C-4302-BD1E-1C96D26B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87EA1-733C-4189-B142-9760EBA3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B26E8-1C25-4EF9-BA9E-546CAABE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C0A13-EE07-4C07-BA40-99C3588F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25827-20B2-47FF-8337-FC14A2DD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2F402-E0B5-4E02-A519-ADF58346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23724-ED25-4643-8B19-B2A08B72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056B2-F961-424D-9773-43C35872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5E4E3-D91F-439E-81E5-0BC31262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6F4D-C70D-49AE-924C-B2F6BD85F7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17A0-A307-4F7B-A79D-D5F14295010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8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8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9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9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49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3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8E1A-879D-479E-B384-1ED06BBAED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9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5D48-D851-46C8-84BA-2A73C70D0D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3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3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3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0E77-F0D3-4049-B63C-4AA2CD515C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dt" idx="4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ftr" idx="4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sldNum" idx="4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AAAB-0FED-4DFC-8270-6ADF1E0CB3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738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F6DE-55E9-450A-856A-DD2ABC80ACD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785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91" name="PlaceHolder 1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87F0-F493-45C2-879B-47E5E77ED95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54D4-C8E5-4005-99AF-F471BF1B2F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FFC6-C2E9-4EF2-B045-5D1EDC0D643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28F1-AB33-447A-8654-93529F5D3BFD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C4BB-6C7F-4CFF-92BB-14014E4068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AC13-858F-47CB-BA13-6E87FA4BF1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6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7461-3634-4ABE-ABB4-52438F371102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2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8158-29BD-4114-A951-50D98BBC0DC8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06FE-8F37-4C7D-9F09-1138910CF17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2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826920" y="333360"/>
            <a:ext cx="777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c5900"/>
                </a:solidFill>
                <a:latin typeface="华文彩云"/>
                <a:ea typeface="华文彩云"/>
              </a:rPr>
              <a:t>Welcome to join us!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4859280" y="0"/>
            <a:ext cx="3405240" cy="422100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2"/>
          <a:stretch/>
        </p:blipFill>
        <p:spPr>
          <a:xfrm>
            <a:off x="679320" y="0"/>
            <a:ext cx="3275280" cy="429264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1116000" y="4797360"/>
            <a:ext cx="63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39640" y="4292640"/>
            <a:ext cx="835344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ahoma"/>
              </a:rPr>
              <a:t>198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ahoma"/>
              </a:rPr>
              <a:t>A young boy called Elliott who made friends with a creature from outer space and helped him find a way back home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392720" cy="360036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5219640" y="1052640"/>
            <a:ext cx="33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427640" y="692280"/>
            <a:ext cx="424800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</a:rPr>
              <a:t>Jurassic  Park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</a:rPr>
              <a:t>1993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</a:rPr>
              <a:t>A park where a rich man keeps dinosaurs, some of whom, the  meat-eating ones, hunted children when hit by a storm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916360" cy="439236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2"/>
          <a:stretch/>
        </p:blipFill>
        <p:spPr>
          <a:xfrm>
            <a:off x="3564000" y="333360"/>
            <a:ext cx="4968720" cy="33066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3"/>
          <a:stretch/>
        </p:blipFill>
        <p:spPr>
          <a:xfrm>
            <a:off x="3492360" y="3789360"/>
            <a:ext cx="5040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1993      Schindler’s Lis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1998      Saving Private Rya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The cruelty of w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Love and peace will win ov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ctiviti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388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o is h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do you think of hi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ecret of his succ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4649760" y="1847880"/>
            <a:ext cx="403704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500" autoRev="1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3" dur="500" autoRev="1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4" dur="500" autoRev="1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8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9144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ven Spielberg, th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ous A______ director, was born in 1946. When still a young boy, he started m_____ short films. At the age of 12, he made his first real films, using actors instead of toys. He wrote the s____ for the film himself. When he was 13, he won a p____ for a short film. He made a film called “Firelight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______ why he didn’t realize his dream to go to the Academy was that he did badly in his studies. After studying English, he got a job at a film studio where he w____ on a short film which won him a job as the youngest d______ in the world. Then his c_____ took off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ven Spielberg, th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ou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merica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irector, was born in 1946. When still a young boy, he starte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mak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ort films. At the age of 12, he made his first real films, using actors instead of toys. He wrote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crip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the film himself. When he was 13, he won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priz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a short film. He made a film called “Firelight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______ why he didn’t realize his dream to go to the Academy was that he did badly in his studies. After studying English, he got a job at a film studio where he w____ on a short film which won him a job as the youngest d______ in the world. Then his c_____ took off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ven Spielberg, th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ous </a:t>
            </a:r>
            <a:r>
              <a:rPr b="0" lang="en-US" sz="2800" spc="-1" strike="noStrike" u="sng">
                <a:solidFill>
                  <a:srgbClr val="ffb800"/>
                </a:solidFill>
                <a:uFillTx/>
                <a:latin typeface="Comic Sans MS"/>
              </a:rPr>
              <a:t>Americ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rector, was born in 1946. When still a young boy, he starte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mak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ort films. At the age of 12, he made his first real films, using actors instead of toys. He wrote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crip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the film himself. When he was 13, he won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priz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a short film. He made a film called “Firelight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reas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y he didn’t realize his dream to go to the Academy was that he did badly in his studies. After studying English, he got a job at a film studio where 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work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n a short film which won him a job as the youngest </a:t>
            </a:r>
            <a:r>
              <a:rPr b="0" lang="en-US" sz="2800" spc="-1" strike="noStrike" u="sng">
                <a:solidFill>
                  <a:srgbClr val="ffb800"/>
                </a:solidFill>
                <a:uFillTx/>
                <a:latin typeface="Comic Sans MS"/>
              </a:rPr>
              <a:t>direc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the world. Then h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care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ok off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aw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a real b________. Many people who saw the film were afraid to swim in the sea when they remembered the s______ in which people were eaten by the shark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s about a young boy called Elliott helping a small c____ from o____ space to find his way back home. The most exciting in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urassic park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when the children are h_____ by meat-eating dinosaurs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Schindle’s lis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are about the c_____ of war over which love and peace w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teven Spielberg are h______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uccessful. And he o____ his success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and happiness to his fami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3883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aw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a rea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blockbus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Many people who saw the film were afraid to swim in the sea when they remembered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scen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n which people were eaten by the shark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s about a young boy called Elliott helping a smal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eatur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ou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space to find his way back home. The most exciting in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urassic park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when the children ar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hunted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by meat-eating dinosaurs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Schindle’s lis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are about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uelty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of war over which love and peace w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teven Spielberg are h______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uccessful. And he o____ his success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and happiness to his fami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7201080" cy="568800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>
            <a:off x="1476360" y="692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happened before this scene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476360" y="544500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ill happen after this scene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1680" fill="hold"/>
                                        <p:tgtEl>
                                          <p:spTgt spid="8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3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3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3883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aw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a rea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blockbus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Many people who saw the film were afraid to swim in the sea when they remembered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scen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n which people were eaten by the shark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s about a young boy called Elliott helping a smal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eatur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ou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space to find his way back home. The most exciting in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urassic park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when the children ar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hunted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by meat-eating dinosaurs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Schindle’s lis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are about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uelty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of war over which love and peace w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teven Spielberg is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highly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uccessful. And 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owe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his success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and happiness to his fami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was Spielberg’s dream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have you learnt from reading about Spielber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ctiviti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indefinite"/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406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Diligence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Little chops can finally fell a great tre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-William Shakespear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Final success often comes in the last five minutes.                 -------Isaac Newto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e difference between gifts and diligence cannot be told. It will remain unknown forever.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--Beethove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y success does not lie in natural gift but in faithful devotion and practice.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-Mei Lanfa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perseverance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secret of success is constancy of purpos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------Chapli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ithout perseverance nobody can succeed.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------  Isaac Newto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 person should have a strong will, or he will achieve nothing.                 ------Madam Curi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ife is like an ocean: Only the strong-willed can reach the other shore.        ------Karl Marx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uccess is the combination of hope and struggle.                             ------English proverb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You are a reporter from CCTV. You are  going to have an interview with Steven Spielberg. Make a dialogue with hi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You are going to invite Steven Spielberg to your chatroom. Have a dialogue with hi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ay something about a dire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 care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 fil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ey to his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/>
          </p:nvPr>
        </p:nvSpPr>
        <p:spPr>
          <a:xfrm>
            <a:off x="179280" y="2157480"/>
            <a:ext cx="864072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uppose you are going to be a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ilm director. Say something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bout your future fil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 txBox="1"/>
          <p:nvPr/>
        </p:nvSpPr>
        <p:spPr>
          <a:xfrm rot="388200">
            <a:off x="-1765440" y="476280"/>
            <a:ext cx="9685440" cy="560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mercialScript BT"/>
              </a:rPr>
              <a:t>Thanks for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mercialScript BT"/>
              <a:ea typeface="CommercialScript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mercialScript BT"/>
              </a:rPr>
              <a:t>        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mercialScript BT"/>
              </a:rPr>
              <a:t>joining us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mercialScript BT"/>
              <a:ea typeface="CommercialScript BT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1763640" y="537372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ahoma"/>
              </a:rPr>
              <a:t>武进区湟里高级中学高一备课组   蒋秋霞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180283" fill="hold"/>
                                        <p:tgtEl>
                                          <p:spTgt spid="8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0" y="189000"/>
            <a:ext cx="85694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 </a:t>
            </a:r>
            <a:r>
              <a:rPr b="1" lang="en-US" sz="40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Steven Spielberg</a:t>
            </a:r>
            <a:endParaRPr b="1" lang="en-US" sz="4000" spc="1" strike="noStrike">
              <a:ln w="12600">
                <a:solidFill>
                  <a:srgbClr val="00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2219400" cy="295272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5292720" y="3213000"/>
            <a:ext cx="2128680" cy="293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0" y="1844280"/>
            <a:ext cx="9144000" cy="45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His childhood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His youth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Several of his successful film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he secret of his succes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9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4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born in American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5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Made his first real film using real 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5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Won a prize for a short fil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6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firelight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8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couldn’t he go to the Academy as a young m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id he study the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job did he get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ich won him the youngest director in the worl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is youth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755280" y="1628280"/>
            <a:ext cx="67690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ame some of his most successful film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uccessful fil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63118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30800" fill="hold"/>
                                        <p:tgtEl>
                                          <p:spTgt spid="8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9" dur="1" fill="hold"/>
                                        <p:tgtEl>
                                          <p:spTgt spid="8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ffcc"/>
                </a:solidFill>
                <a:latin typeface="Tahoma"/>
              </a:rPr>
              <a:t>Jaws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1975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A real blockbust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A white shark attack swimmers who were spending their holidays in a village by the se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10:12:39Z</dcterms:created>
  <dc:creator> </dc:creator>
  <dc:description/>
  <dc:language>en-US</dc:language>
  <cp:lastModifiedBy> </cp:lastModifiedBy>
  <dcterms:modified xsi:type="dcterms:W3CDTF">2003-10-14T02:35:08Z</dcterms:modified>
  <cp:revision>25</cp:revision>
  <dc:subject/>
  <dc:title>幻灯片 1</dc:title>
</cp:coreProperties>
</file>